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794-0BD4-4C7D-B9D2-CEC8E5CC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0AE-01B6-424C-AD13-C225FF7B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5B3-7321-455F-8D80-A78E5701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628-C7D5-46CD-8CB8-17EF8F1F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B735-2825-42D7-AC4C-33AF42F3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5F4E-3880-4ABC-AAB2-B4ADF0B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63EF-9B37-4A08-9B51-63C49BD6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6C7F-846F-463A-A24E-5E8E651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6B6-2848-40C8-A569-6F436302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E15D-4C7E-4C3D-8D85-7F9E9E87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EE5-045E-4004-8A9E-82CA430E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3B8-8EB0-4205-AFED-2101147B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389-AC8A-4568-A51A-A3520D3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07C6-525E-407B-9BFA-F61F96A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3E0D-9083-4ACC-97AB-87B88DA2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97C9-0D6B-4BFD-A3A7-90F0DCF4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B8A3-98B5-42EC-9064-DCADC6ED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748-B447-4569-BB0C-6BBBEB0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064-ABED-4E3D-88E9-45A3E3D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970-1EB0-458C-9597-98C6A546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A14-F9D3-4EC3-8135-73A7988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3D2-0725-4363-BAE4-A27E83D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488-A7F9-4E90-9652-02A8BEA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177-739B-4330-97A1-B114964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6477-1F69-4566-8BBC-BECC61410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7AC-E3E0-44E0-A571-9F7FB5581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United Kingdom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9-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5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Appointed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Seeks Father’s Donkeys – 9:1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mpt to Find Seer – 6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Talks To Samuel – 15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’s Mission for Saul: Deliver God’s People from Philist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 Entertains Saul – 18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the Humility of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Appointed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For Saul’s Assurance -10:1-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Foresee The Fu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’s Prophetic Words Will Give Assurance When They Are Made 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’s Heart Is Changed – 10:9-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Given Another Sign – Prophesy Coming From His Own 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Appointed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ship Plans Not Told His Uncle – 10:14-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mbly at Mizpah – 10:17-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4548240" cy="34736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52480" y="3809880"/>
            <a:ext cx="2895840" cy="914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657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zp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ul Chosen As K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Physical St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Early Tim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Look On The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Live The K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Acceptance Was Mixed – 26,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0:32:23Z</dcterms:created>
  <dc:creator>Terry W. Benton</dc:creator>
  <dc:description/>
  <dc:language>en-US</dc:language>
  <cp:lastModifiedBy> Don Vines</cp:lastModifiedBy>
  <dcterms:modified xsi:type="dcterms:W3CDTF">2005-03-30T19:46:19Z</dcterms:modified>
  <cp:revision>2</cp:revision>
  <dc:subject/>
  <dc:title>The United Kingdom</dc:title>
</cp:coreProperties>
</file>